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63653-EAD2-450E-B175-8BF44C16B9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79543-9DB2-4B3C-8035-D5451A6780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EC7A6-7E1E-4E12-A07B-53BD3DA9BA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CF8C-A93A-472A-BE17-CF5734DEA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7E24-8AA2-4F1D-987B-52251A9E5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E56E-54B3-4130-82A1-3665DEFCC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6264-7E72-423C-914E-EAF5B6901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D945-8E7D-4591-88E7-0419865E3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80FB-6B6B-4CD8-A688-1EC53D91B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AB74-DCF5-4A62-9F69-C9BD7BBCA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51B5-1DC9-4E3D-85DF-C9FFE7630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CA8B-8EEB-4C07-87DA-4938E382F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CC34-564E-4559-91FE-23B39C071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AFBF-3604-4166-BC80-8221CBE53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9DA8-B48C-4EF2-94EB-58922DE73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DF698-EB92-4B45-B957-8E056C1101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533520" y="106668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man shouted loudly, “Look out below!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380880" y="1828800"/>
            <a:ext cx="769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can’t believe you said that.” the mother said, with pain in her vo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609480" y="2895480"/>
            <a:ext cx="769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always have to sit in the back!” the kid whined loud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838080" y="4114800"/>
            <a:ext cx="769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irl said in a devastated voice, “You said you would love me forever!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685800" y="541008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y and catch me!” the child said to the father, playfu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685800" y="3808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rama Sent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762120" y="243828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old man said softly, “I believe in miracle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762120" y="304812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y do you think you’re grounded?”the father said angrily to the s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762120" y="403848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ok behind you! A monster!” the girls said with terror in her vo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838080" y="5029200"/>
            <a:ext cx="769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ve a Merry Christmas Mrs. Smith!” the girls said sweet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457200" y="114300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rincipal announced stiffly, “The following students are requested for a conference in the office..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4T01:35:52Z</dcterms:created>
  <dc:creator>cathleen.carpenter</dc:creator>
  <dc:description/>
  <dc:language>en-US</dc:language>
  <cp:lastModifiedBy>Dan Olsen</cp:lastModifiedBy>
  <dcterms:modified xsi:type="dcterms:W3CDTF">2011-04-05T13:03:23Z</dcterms:modified>
  <cp:revision>4</cp:revision>
  <dc:subject/>
  <dc:title>Slide 1</dc:title>
</cp:coreProperties>
</file>